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D73F-492F-4597-A1B9-2E753934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B6B5-DEB3-4B38-9D47-DB48E8BD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8D5A5-0C05-4C83-A608-AD951FB3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0037B-18C1-4083-B6D6-8A502201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052BE-A699-4424-BFE0-01472BC6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CF3BF-F5C3-467D-BC18-80B14862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5B724-1AC8-4180-B356-7057BB5E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BD178-DB1D-4894-9EF9-7978D6D8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9F083-E082-4A27-B612-2AEFF755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80590-6974-4658-861D-6A7DA7FA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60B5F-5A04-42AE-BE0B-73B43E0E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27407-78DD-4CC3-A841-573B60CA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E074-3384-4512-9CC9-EC0E724D0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D3890-1E17-46D2-BDEA-862A041A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29E9B-6D06-47EC-B0F4-3A276F48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D60E8-7149-4FAF-86C8-FFEBEF8C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CA434-56C0-4EBC-9753-7802D4AC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66AE6-1283-4552-9990-27D4A3E3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ACBAE-F3F4-4E5B-9E90-B5BB8CFF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982A1-E5E5-4108-9E38-E0A0B0DC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7CBCA-7925-4538-B2E8-2C219B0B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22DDD-06E9-4B64-A69E-16C24289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AC04A-3D72-4E1E-A8A3-87B7EB24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95F8-8FB3-4988-9109-F165DF2E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5539E-BE57-4024-B686-3E04ED8F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A9800-43C6-4E2C-A381-C732C123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8DCE9-3DE4-4B8A-9605-05360114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FEFF2-4DBA-4FD1-BFA6-64B25C6D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BBF8F-945D-485C-A9FB-E8EAFCAF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4E850-3A4C-41B7-ADB3-4FA261BA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F2CC8-97A7-409F-95E8-3F89A3E9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B8A1A-77A3-43F9-AB84-35E0FC5F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CAE80-DE91-4CF8-81EC-05991E90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294D2-EA7B-4828-A84B-E9AF2BCE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50EB-EC9C-4D19-88F2-234338D0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61A09-85EA-40BD-B661-DD1F4938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3DFFB-3375-4285-9847-F6BB3C599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56957-3FE3-4021-98AF-EA2461A0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D9A1F-70E7-423A-AA18-8AEBE62C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F5F90-6017-4ED2-95F5-11603FF6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A82BF-2BEA-4092-AAB1-72880C6B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99669-B737-4515-BD57-D6FC27E1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DDAAB-0309-4AAC-9B75-A764E76B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069A7-CBE8-4730-BCC3-5BEDAE25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EEC01-B95C-47B4-9523-0C7CFDAB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89F7-0418-4313-B7EC-9FD5A2D3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243CD-D997-4855-9B4F-C4033014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60558-12D8-41F8-ADC9-7870293D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17644-5003-4594-A9A5-F11AF571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9E589-E435-4A1F-B282-0291BE67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8B595-E718-4AC2-81EE-B2B586B8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ADBC31-C39B-4A7C-A808-A5324C0E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DFA4F7-35A5-4DC9-8E0A-DE985956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A8F410-1B82-4006-9E0B-E215BC12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71F6BB-EDDE-45FF-BB68-38DDEE54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E4BDCA-5F31-4E0F-B1F0-460E3627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B09B-02C8-421E-A16E-62501734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A46E1B-2E25-46D1-B3AC-2BA1A6D9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61535A-6307-48AF-A79C-292257E9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A99FD7-BD91-439D-B797-C4B7E946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CD166A-AA01-4837-B73C-8811CC5C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3BAAC-FC00-44D7-BE1D-1C6C7AA5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0D6E8C-6129-4BE4-A5DD-825A8822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424DA9-F1D3-4FD1-8C4E-CEB24584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D5BB6C-DBF0-4FEF-B872-FF4BE61D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EC0A0C-4662-40CA-9D11-B6661DC0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EF38BF-4B05-4AF3-889E-E381C057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62A6-61B3-422A-B3EF-81F24A8D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F899E7-B140-40A8-AFB7-106D6139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B4DC24-07F7-4E95-BCC0-A092B7EE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61E3EB-9FBD-4912-B537-6F122F46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0446D5-7E97-4180-A778-FF6A197A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64FACB-4ABC-439C-8948-F9E0B009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62D745-FA36-4BF1-884C-55C612E2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00199C-8DB2-499A-98D0-86B382E4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7FAB46-4697-4C6C-A04F-67423257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B193B9-D352-42A1-A2CE-B4CF6B0E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8D6780-F624-4994-BF21-F21EDB8F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60CA-6547-464E-B31F-D4AA5E70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A9D7B5-5BCD-4F75-AE8D-D9411CF1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67F1BE-BF9A-45BC-A375-F2558F79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0D7919-28FB-4422-9E8A-EF9E8DC0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9A4176-62FC-402E-8E7C-165371E4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BA76D6-A321-42E1-94E1-22B5C04A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DF0F5B-99EF-42C2-8621-FA4E80CB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02627C-5D09-4223-9323-DBC82249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F2D7B5-014F-425D-BEC0-D5570D04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7D0247-8C8E-4AFC-A37E-2825C1A1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8CAB21-5963-46A2-8DDD-4C018FE9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C5B8-65A6-41C9-B6D7-7C676575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D4CF6F-08AC-4D31-9AB9-667044E9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2A7813-8A8E-48B5-AFF7-E29EEA71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BE8E6D-670C-41C0-A306-84CC6A67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F93385-41F1-44DC-A025-764CBEF5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801EED-1038-4FE4-89E5-3DAE8C9F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EAFB2C-6AE8-4FB5-B367-5AE0F3D8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965DD3-6A29-4368-90E1-0631B0E8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813A46-A1DB-43C1-8278-AA9289C0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5C97C1-F642-4AEE-A491-39B69252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D07505-2EF1-4C48-8FA0-23DDC93C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F5FE-73B9-48CB-80B4-B1923544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86378C-7AFB-4C23-B550-9F94884D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9C3D54-653E-45E2-B14A-EA1852D2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557B99-84A7-4D1D-AE07-A0A4A4F7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E6E35A-3277-464F-9CAA-CDE18CCD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771B1D-706D-4534-BB14-9D4F7E65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0D201B-D58D-404C-9010-1612AB12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84DF07-B99C-4A28-8D41-E0D46959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70DFD3-9BAB-4B94-B91F-4227B484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82F8B0-4819-491C-B602-A276B779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4BC977-F73E-4E87-BB51-EE6F0778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BE4A-3E66-4991-A841-A3DAA21B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83AB-000B-456D-8FE1-1BB77D0E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7B9A53-35C4-4741-9057-8B8D41A6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C8F3CD-749A-4745-8E1F-03A4A2DB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6E6995-F4DB-4170-8174-EB5B619C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917F66-83BE-451F-BBD2-2B55A2F9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A32F0D-3094-49B7-B0E3-2B8D4C9E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EB9DE0-B7B4-471A-BDFF-6AE0B04D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E017C9-6F46-4D95-9C2F-92E65D73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07926B-54B7-49A5-9692-AECA50D9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3D6643-A5B3-4880-B869-DEAAC935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ECAD97-1610-4CFD-B2AB-2E1488AA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F182-6B89-4B69-9273-076FA5CF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D84DFE-FA92-4781-8C91-08CE4F5D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73CC36-A92B-4513-8591-24FEC2E4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678F0E-F930-40B2-9B10-E8C17ED0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C5DDAD-40ED-44EA-BB75-DBBA2ED1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E4C22F-E1AE-4C87-BE66-6E0E516A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28A04E-15A3-454E-B164-A3E2B4F0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770410-E2B2-4355-8DEB-8C9C098B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CFAACC-8971-401A-81FF-1AEE36EF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2562F6-DBDD-4AE3-B340-596D73EC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5D1C13-614A-4562-89B7-64102B12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4478-E4AC-4C74-BECE-04B3B346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41708C-0B0D-4127-8342-995416F9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0A3888-EDD1-47D5-B532-070DE371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CB33C6-C6B3-476D-A20C-84A16B0F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884E74-5118-40A4-B44A-DF4B7AB6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33FE3E-0980-4501-8B45-980A4D99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1012A2-574D-43E0-B8CD-D2B22F72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8A61CD-C657-4B1F-89F0-6B4FA708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80F785-F768-454F-A528-A562C37E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AF182C-EB2A-4EC9-93FA-920B4284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CA816A-309D-45AB-B29A-6CE84A7A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EF2C-2157-4F16-81A4-ACB40547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809021-566D-4BF9-A403-EC840174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AB0762-14CC-4AAE-9CD9-436CAFBB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3D3E6D-5202-46A1-B2C4-53708C17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4BB9EC-B6E2-4EAE-A7F7-CC671D4A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8FC804-CC31-45AC-AA64-CAFAE51A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4EB3F0-E2A3-473A-886B-8260A1C6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CB2A34-603B-43CE-A9D8-7F88A317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383692-1FB4-460D-A412-E50FC43F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646D8C-72C8-4124-887B-52EDB220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97582F-951A-493B-A11E-5B905121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9EDF-F63E-41DC-ABB6-EFCC97E5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3E86EC-7ED0-441B-8BE5-0A315C7E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A59D91-CD70-4535-8925-2990805F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05EA13-99C8-4FD4-B07B-5DF1E4D1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262AC7-0935-4D60-BE40-0ED6DB4D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DBACB8-9040-412D-89DD-42A8AED3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EFC901-4972-41F3-86FD-6430ED2A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9AC34A-E977-41FF-87C7-0C716550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043C28-CA49-4D02-8995-1C9F7B6E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056573-B0BB-4714-8429-7A63A5DD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B3B642-59D2-4DD2-B957-5C75E4D6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D2F6D-0673-4422-AD97-F53630A7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D80F51-968B-44D2-82DF-E0D7985D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3BCF82-90F5-40DE-90E1-92A8A691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998E1F-E98A-481A-A342-6F908E0A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A9C6A-5112-4B65-A178-58279CB4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569D5-FF0C-4D77-A1CE-BCBA178F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99A08-96DE-4782-9827-CF6E0B7F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1F8FB-237B-4279-AEF0-E1AE5012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FF0D-986E-496C-9CE9-FD11F7DA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DF116-AC5F-4EFC-ACD3-DCE1092F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B2962-A5B3-406F-B955-49C0B893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84DA0-1411-47CB-BBA6-5A928CCA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66027-5DE0-486E-A883-2A637683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3A88C-733B-4FE5-BAFC-51FFB663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911E8-B77B-479E-A6C3-63AC49DD6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1589B-4FC3-4BD3-BE5A-DCD1A522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BAAC5-452C-4655-AD38-2B8E44C8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61558-8390-463E-9AAF-723E83D6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27F25-7DEE-4B83-AB5A-D3B0ED8F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D379-D183-4CEB-8E52-4E22EC68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0A8A7-13CE-409C-BB4B-6CECBB76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8D67F-3417-4593-99A5-F8AA2453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C6361-1A39-42CC-AE33-9079D997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E602B-2229-48BD-9E64-232F694E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5C95A-D275-413C-8076-F90707A3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0A1BD-8291-4005-A7F0-9B8B6EB9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BF10D-9910-49CB-85ED-F6C43145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30E9D-78B5-4B8C-83A5-F7BF82D3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040E0-9D17-4D4D-83F3-CCA73876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69865-39F6-40FD-BAD8-42303EEE6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5E97-1197-47D0-8909-0A156504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1CC50-50AE-44F5-B807-CCF23FF4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46745-24B6-4035-BA90-BA255263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207EF-F04B-4B73-B487-C8188362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A8C62-D65C-4297-B4C5-DE234892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A86A2-C427-4AE8-8197-5ACCD722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D45BC-3440-467F-906D-B33AF691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8F545-9879-47D6-A533-E62A330C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F15E3-448D-4380-BCDF-C00F40B1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A9AAD-539E-4F35-ACF1-9E77CF66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7D23B-ACB0-4280-ADB9-29318980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91E-78F1-49B8-8DF7-24D0F8E3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411AA-3F05-475D-95A9-4D4768AD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4E1ED-85BE-4A08-8C76-BA765EFB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B4390-73BF-406A-BB85-9180D984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6891B-5381-4F81-BD13-A189CD55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0CCE9-F5DB-4024-93E2-974B0487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9CC60-C946-489F-AC3F-C0B88DA1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30002-1BCF-4106-B014-760E8514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A1FCC-F3A8-472F-BBD4-E1923116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8053E-0542-43B9-AA68-8AFB1BEE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236A3-69C8-4E9B-8C3D-8196FE13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0D2F-C5DC-4527-AFBE-9702FFFE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2D827-ACF1-4BAC-BD2D-5F2BE329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14EFD-D317-4F38-B821-ADD096F5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DA858-E126-4CB7-9396-53F5C65B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FB1CF-431B-4C89-83CE-943A2D64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2541B-D51D-45BE-9EDE-F322D60F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85086-E019-455D-92C8-22109A8F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1B5F6-6525-412E-A2EC-B8E29A10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AC047-171A-4E58-9249-0B56BB7B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AE20E-AC9F-4E76-974D-4F004FDB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00495-9189-467D-9BD1-651E2B1F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CE9F-DEAD-4752-B85E-D1E84141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499D9-F1D9-40FA-A305-3FDCC619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0B4CF-560D-4AEE-8064-E99D1B8A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37F3E-9875-4C79-A237-52F2D507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143F0-866F-42D6-A0D1-DBD6A728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1962E-914C-4533-9D0C-863C601B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6BD00-B3AD-4FB3-B6EB-723AAB3A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64252-8AAA-440D-96BA-5CE09699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70822-9C25-4CA2-88B0-4AE5352C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A6269-E037-4770-8126-03206F76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91A86-DDCC-46BE-91B1-C7145606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B4D4-EC8D-4D76-8F2F-0BB0DF62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596A0-4500-4A73-B715-67FF7B9A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A2FE3-14B2-4745-961E-550EC446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FA6DB-F14E-4144-AB5E-1BEB2990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07429-131D-444C-956D-3D606A25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68568-EEDD-47AA-B2C4-62BBFCFD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05862-3A14-4D7B-BD09-209EF9F9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6FF8B-D9A5-415B-9707-C6023D5A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FDBDF-EDEA-4DFD-8AE5-3CE67FD01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42159-BA86-4F2F-A930-FD36116C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0CA3D-1508-4380-AFA1-61A1365B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22DF-56BB-4170-A0C9-3B169D663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9F6E-F9E0-45C9-9A71-EABA9D595A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9391-0701-49B1-B81A-5F0C708483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5FA4-B801-4C90-8A78-58C5039FC0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0A6D-C44E-40F8-8052-26A9D70458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A05A-09E5-4393-AEC6-D7BF6D0F02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FBD5-B0FF-4764-B599-FB9ACEDFD6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EAD7-80E0-450F-BCA3-63A3FDE481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1A30-0DD6-4C0E-B1D9-629C902434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0E6C-86CB-4799-9198-47153812FF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6BA6-27BE-4B2A-A8B7-6E7034881C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D4BC-362D-4DD8-9CE9-73F2AE6953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BEA4-6F97-4F56-A1A0-A0D03B5B23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BF1D-FD67-4FA1-BFC9-BABF7E7220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7475-48CB-43D1-9BFD-F2C94C5E0B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30FD-37EF-4B2C-A3CD-832E4C46BF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01CB-26FD-4A64-92CF-C042A5DF85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E31A-F419-417B-A603-B2D44E0C4F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2F16-243F-43BE-AAFF-D7F359A1C0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214E-7DAD-4D1F-B9BF-1EDCEB56C1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F8D3-B0B1-4DED-97B7-CFFE28028A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E5E0-056B-4782-B1E0-E8C74BC3D5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FC98-69F9-4BB5-A1B3-884BD275AF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4E41-CE07-4AED-81AC-54A2BC5CDF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3A45-33F1-4338-97E3-F176BE8CCD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14F2-BDE2-47A3-A94C-85C6C245F5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B9FD-7758-4C3F-9999-6911A4DE3B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106C-8042-4FA0-A6F2-0D183EAB8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8751-528C-48A3-98AC-484B9E2B2D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559D-48BA-43F4-A3CE-8D051338F7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7C62-F363-474A-9EBB-59C355872A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8030-DF11-4975-A98F-A3D4D149B8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112F-0E2D-48CB-817D-62A3471DA3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27D5-7C10-4C9E-A554-BEFF16BD24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D569-23BB-4A96-911B-D6A9CB5026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D4B9-EF3D-4485-9506-2740F11240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2F4F-7076-4C31-B590-862DAB79F5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34E4-F6D6-45B3-A1B0-CBC804B508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ECA0-1A16-4C8D-B0A6-B2966334C9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35FE-9E30-475E-92F0-EE67D46F46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719440" y="2046240"/>
            <a:ext cx="3705120" cy="109548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1195560" y="3265560"/>
            <a:ext cx="675288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4" name="图片 1" descr=""/>
          <p:cNvPicPr/>
          <p:nvPr/>
        </p:nvPicPr>
        <p:blipFill>
          <a:blip r:embed="rId1"/>
          <a:stretch/>
        </p:blipFill>
        <p:spPr>
          <a:xfrm>
            <a:off x="104760" y="990720"/>
            <a:ext cx="8934480" cy="534168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2"/>
          <a:stretch/>
        </p:blipFill>
        <p:spPr>
          <a:xfrm>
            <a:off x="1332000" y="2722680"/>
            <a:ext cx="5111640" cy="4492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3"/>
          <a:stretch/>
        </p:blipFill>
        <p:spPr>
          <a:xfrm>
            <a:off x="1403280" y="4249800"/>
            <a:ext cx="5112000" cy="4492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4"/>
          <a:stretch/>
        </p:blipFill>
        <p:spPr>
          <a:xfrm>
            <a:off x="1332000" y="5805360"/>
            <a:ext cx="51116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0" name="图片 1" descr=""/>
          <p:cNvPicPr/>
          <p:nvPr/>
        </p:nvPicPr>
        <p:blipFill>
          <a:blip r:embed="rId1"/>
          <a:stretch/>
        </p:blipFill>
        <p:spPr>
          <a:xfrm>
            <a:off x="466560" y="1957320"/>
            <a:ext cx="8210880" cy="294336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2"/>
          <a:stretch/>
        </p:blipFill>
        <p:spPr>
          <a:xfrm>
            <a:off x="900000" y="3543480"/>
            <a:ext cx="6336000" cy="44892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3"/>
          <a:stretch/>
        </p:blipFill>
        <p:spPr>
          <a:xfrm>
            <a:off x="755640" y="4292640"/>
            <a:ext cx="63356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5" name="图片 1" descr=""/>
          <p:cNvPicPr/>
          <p:nvPr/>
        </p:nvPicPr>
        <p:blipFill>
          <a:blip r:embed="rId1"/>
          <a:stretch/>
        </p:blipFill>
        <p:spPr>
          <a:xfrm>
            <a:off x="409680" y="1990800"/>
            <a:ext cx="8324640" cy="287640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2"/>
          <a:stretch/>
        </p:blipFill>
        <p:spPr>
          <a:xfrm>
            <a:off x="900000" y="3559320"/>
            <a:ext cx="5832720" cy="44928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3"/>
          <a:stretch/>
        </p:blipFill>
        <p:spPr>
          <a:xfrm>
            <a:off x="971640" y="4335480"/>
            <a:ext cx="5832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" descr=""/>
          <p:cNvPicPr/>
          <p:nvPr/>
        </p:nvPicPr>
        <p:blipFill>
          <a:blip r:embed="rId2"/>
          <a:stretch/>
        </p:blipFill>
        <p:spPr>
          <a:xfrm>
            <a:off x="176040" y="1085760"/>
            <a:ext cx="8790120" cy="4686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187280" y="2060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1201680" y="2795760"/>
            <a:ext cx="576360" cy="4489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1258920" y="3573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1187280" y="4292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7"/>
          <a:stretch/>
        </p:blipFill>
        <p:spPr>
          <a:xfrm>
            <a:off x="1258920" y="50990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76320" y="965160"/>
            <a:ext cx="8991360" cy="58579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1187280" y="1916280"/>
            <a:ext cx="576360" cy="4489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1187280" y="4149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604800" y="914400"/>
            <a:ext cx="7932600" cy="502920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900000" y="9079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971640" y="321300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619200" y="2386080"/>
            <a:ext cx="7905600" cy="2085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971640" y="242100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90360" y="1181160"/>
            <a:ext cx="8961480" cy="44956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3851280" y="2147760"/>
            <a:ext cx="1368360" cy="449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4125960" y="2881440"/>
            <a:ext cx="1368360" cy="4492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1332000" y="4365720"/>
            <a:ext cx="1368360" cy="4492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1403280" y="5143680"/>
            <a:ext cx="1008000" cy="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8" name="图片 1" descr=""/>
          <p:cNvPicPr/>
          <p:nvPr/>
        </p:nvPicPr>
        <p:blipFill>
          <a:blip r:embed="rId1"/>
          <a:stretch/>
        </p:blipFill>
        <p:spPr>
          <a:xfrm>
            <a:off x="409680" y="2376360"/>
            <a:ext cx="8324640" cy="2105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2"/>
          <a:stretch/>
        </p:blipFill>
        <p:spPr>
          <a:xfrm>
            <a:off x="3708360" y="2435400"/>
            <a:ext cx="1224000" cy="4489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3"/>
          <a:stretch/>
        </p:blipFill>
        <p:spPr>
          <a:xfrm>
            <a:off x="4470480" y="3170160"/>
            <a:ext cx="1224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3" name="图片 1" descr=""/>
          <p:cNvPicPr/>
          <p:nvPr/>
        </p:nvPicPr>
        <p:blipFill>
          <a:blip r:embed="rId1"/>
          <a:stretch/>
        </p:blipFill>
        <p:spPr>
          <a:xfrm>
            <a:off x="709560" y="757080"/>
            <a:ext cx="7723080" cy="5343840"/>
          </a:xfrm>
          <a:prstGeom prst="rect">
            <a:avLst/>
          </a:prstGeom>
          <a:ln w="0">
            <a:noFill/>
          </a:ln>
        </p:spPr>
      </p:pic>
      <p:pic>
        <p:nvPicPr>
          <p:cNvPr id="1064" name="图片 3" descr=""/>
          <p:cNvPicPr/>
          <p:nvPr/>
        </p:nvPicPr>
        <p:blipFill>
          <a:blip r:embed="rId2"/>
          <a:stretch/>
        </p:blipFill>
        <p:spPr>
          <a:xfrm>
            <a:off x="1508040" y="6226200"/>
            <a:ext cx="1971720" cy="5904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3"/>
          <a:stretch/>
        </p:blipFill>
        <p:spPr>
          <a:xfrm>
            <a:off x="3995640" y="24638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4"/>
          <a:stretch/>
        </p:blipFill>
        <p:spPr>
          <a:xfrm>
            <a:off x="2484360" y="40194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5"/>
          <a:stretch/>
        </p:blipFill>
        <p:spPr>
          <a:xfrm>
            <a:off x="2627280" y="61945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0" name="图片 1" descr=""/>
          <p:cNvPicPr/>
          <p:nvPr/>
        </p:nvPicPr>
        <p:blipFill>
          <a:blip r:embed="rId1"/>
          <a:stretch/>
        </p:blipFill>
        <p:spPr>
          <a:xfrm>
            <a:off x="1352520" y="893880"/>
            <a:ext cx="6438960" cy="58276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2"/>
          <a:stretch/>
        </p:blipFill>
        <p:spPr>
          <a:xfrm>
            <a:off x="2556000" y="162864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0:45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